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DDC468E-E9C9-4799-9A39-98DCD54FF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E1971D2-2689-4C61-B24E-6063712B21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on-demand assessment instruments will not include any assessment activities that could be classified as Level 4. However, standards, goals, and objectives can be stated in such a way as to expect students to perform extended thinking. “Develop generalizations of the results obtained and the strategies used and apply them to new problem situations,” is an example of a Grade 8 objective that is a Level 4. The extended time period is not a distinguishing factor if the required work is only repetitive and does not require applying significant conceptual understanding and higher-order thinking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92C830-2D90-4A9D-B86A-FC850FBC3A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on-demand assessment instruments will not include any assessment activities that could be classified as Level 4. However, standards, goals, and objectives can be stated in such a way as to expect students to perform extended thinking. “Develop generalizations of the results obtained and the strategies used and apply them to new problem situations,” is an example of a Grade 8 objective that is a Level 4. The extended time period is not a distinguishing factor if the required work is only repetitive and does not require applying significant conceptual understanding and higher-order thinking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a task. exemplifies a. results in an increase to. would represent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5AFF0E3-30B3-4AA7-A5DA-D262C59101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970BB1-1432-403C-AE3E-0352EFF542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n Elk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C8178F-F200-4875-9E54-43D1A22AF8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vel 1 only requires students to demonstrate a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r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esponse, use a well-known formula, follow a set procedure (like a recipe), or perform a clearly defined series of ste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02F4C6-341A-45AD-AE5B-85C0CE0D17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ent knowledge or process involved is more complex than in level 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example, to compare data requires first identifying characteristics of the objects or phenomenon and then grouping or ordering the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A1DA43-7B0A-421C-9CEA-E0F040CE77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, represent and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/contrast people, events, places,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23C715-3839-4EB5-9345-8EE786901C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mplexity does not result only from the fact that there could be multiple answers, a possibility for both Levels 1 and 2, but because the multi-step task requires In most instances, requiring students to explain their thinking is at Level 3; requiring a very simple explanation or a word or two should be at Level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002584-36A2-4F0B-8149-95C02186B8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, generalize, or connect ideas using supporting evidence from the text or from oth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479-9B80-442B-8AB6-A8AC1D60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21E-C0F1-497C-9475-BB92BC78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F1B-22DE-469E-BF20-859933A8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FFE-A1E8-4AB8-87D6-7843F47E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1CFDB-BD81-4ABE-A33E-065C46B2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1EBCE-45BC-4A4E-98B9-99C62472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1AF2-9483-45AA-9160-90D1B8D2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5537F-6BF0-41F8-9EAA-88C2C2E4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F24F7-0A14-41B1-B977-9A583E67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EF111-BB6D-4583-8096-590C6B52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21FC0-2C6B-492D-8FC3-FB93259D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851-9DE8-4480-B1CA-F9839F37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0D051-2465-4B78-977E-E9B3270B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C316C-D841-420C-8578-91C9D38B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DCA83-5E9F-47FD-BA43-A02970FC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C1843-BF4D-43F7-8742-B431BF0F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B941F-0431-4519-BD19-AA1E9906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DC9-7DC2-45B5-A9E8-D91BC43C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0FE0-010C-4B76-9D0F-1AC8D899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32A-9B30-4F4B-BB44-58343086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E61-0F15-4750-9A81-DD1264B9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DF5-1BD8-4D70-9F46-E6E539F3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F4D-0098-4052-A7EE-D009A956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3A6-F088-49AD-9F46-8E6E39DD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Template from www.brainybett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617D-5700-42C2-B0A6-9AD6A59F4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Template from www.brainybett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F6A3-9D7E-4E6F-A86C-90073542A5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pth of Knowledge (DOK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ITI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417B-851A-4FC2-84D9-301A6E661E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K Level 3 Examp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 scientific model for a complex id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ose and evaluate solutions for an economic pro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, generalize or connect ideas, using supporting evidence from a text or sou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dance that represents the characteristics of a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B649-4C74-45DE-BBCF-5E8157013E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98400" y="385560"/>
            <a:ext cx="7988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tended Thinking:  Level 4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1676520"/>
            <a:ext cx="81532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K 4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quir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igh cognitive dema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nd is 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  <a:ea typeface="Times New Roman"/>
              </a:rPr>
              <a:t>very comple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Students are expected to make  connections—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  <a:ea typeface="Times New Roman"/>
              </a:rPr>
              <a:t>relate ideas </a:t>
            </a:r>
            <a:r>
              <a:rPr b="1" i="1" lang="en-US" sz="2800" spc="-1" strike="noStrike">
                <a:solidFill>
                  <a:srgbClr val="ff7c80"/>
                </a:solidFill>
                <a:latin typeface="Arial"/>
                <a:ea typeface="Times New Roman"/>
              </a:rPr>
              <a:t>within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  <a:ea typeface="Times New Roman"/>
              </a:rPr>
              <a:t> the content or </a:t>
            </a:r>
            <a:r>
              <a:rPr b="1" i="1" lang="en-US" sz="2800" spc="-1" strike="noStrike">
                <a:solidFill>
                  <a:srgbClr val="ff7c80"/>
                </a:solidFill>
                <a:latin typeface="Arial"/>
                <a:ea typeface="Times New Roman"/>
              </a:rPr>
              <a:t>among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  <a:ea typeface="Times New Roman"/>
              </a:rPr>
              <a:t> content areas—and have to select or devise one approach among many alternatives on how the situation can be solv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ue to the complexity of cognitive demand, DOK 4  often requires an extended period of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9058-F6F2-418E-9D26-148E519A33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685800" y="380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wever, extended time alone is not the distinguishing fac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828800"/>
          <a:ext cx="7696080" cy="4829040"/>
        </p:xfrm>
        <a:graphic>
          <a:graphicData uri="http://schemas.openxmlformats.org/drawingml/2006/table">
            <a:tbl>
              <a:tblPr/>
              <a:tblGrid>
                <a:gridCol w="5562720"/>
                <a:gridCol w="2133360"/>
              </a:tblGrid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in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ollecting data samples over several mont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ec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Organizing the data in a char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kills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oncep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Using this chart to make and justify predi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trateg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hin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eveloping a generalized model from this data and applying it to a new situ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xten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hin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D383-D487-4DCD-BB60-8C20361F4E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tended Reasoning/Thinking Examples:  Level 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ther, analyze, organize, and interpret information from multiple (print and non print) sources to draft a reasoned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zing author’s craft (e.g., style, bias, literary techniques, point of view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n exercise plan applying the “FITT (Frequency, Intensity, Time, Type) Principl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9A1E-2CE2-469B-8E15-CB3F062400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tended Reasoning/Thinking Examples: Level 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e and explain multiple perspectives or issues within or across time periods, events, or cul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y a problem, identify solution paths, solve the problem, and report the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and produce an original 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pth of Knowledge is </a:t>
            </a:r>
            <a:r>
              <a:rPr b="0" lang="en-US" sz="2800" spc="-1" strike="noStrike">
                <a:solidFill>
                  <a:srgbClr val="ff7c80"/>
                </a:solidFill>
                <a:latin typeface="Tahoma"/>
              </a:rPr>
              <a:t>NO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d by the verb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the context in which the verb is used and the depth of thinking requir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1132-AEDB-4DE9-8D87-1D11611F14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838080" y="304920"/>
            <a:ext cx="777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OK 3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escrib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 model that you might use to represent the relationships that exist within the rock cycl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Tahoma"/>
                <a:ea typeface="Times New Roman"/>
              </a:rPr>
              <a:t>(requires deep understanding of rock cycle and a determination of how best to represent i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OK 2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escrib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he difference between metamorphic and igneous rock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Tahoma"/>
                <a:ea typeface="Times New Roman"/>
              </a:rPr>
              <a:t>(requires cognitive processing to determine the differences in the two rock typ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OK 1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escrib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hree characteristics of metamorphic rock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Tahoma"/>
                <a:ea typeface="Times New Roman"/>
              </a:rPr>
              <a:t>(simple recal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51460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c507"/>
                </a:solidFill>
                <a:latin typeface="Tahoma"/>
              </a:rPr>
              <a:t>Same verb—three DOK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K levels can be cumula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90360" y="3309480"/>
            <a:ext cx="6933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tem/standard written to DOK 3 often contains DOK 1 and DOK 2 level dem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7C60-B678-4AD7-A9BD-5F48900E5A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rmining DOK:  Science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Group 46"/>
          <p:cNvGrpSpPr/>
          <p:nvPr/>
        </p:nvGrpSpPr>
        <p:grpSpPr>
          <a:xfrm>
            <a:off x="685800" y="1600200"/>
            <a:ext cx="4266720" cy="4797360"/>
            <a:chOff x="685800" y="1600200"/>
            <a:chExt cx="4266720" cy="4797360"/>
          </a:xfrm>
        </p:grpSpPr>
        <p:grpSp>
          <p:nvGrpSpPr>
            <p:cNvPr id="141" name="Group 17"/>
            <p:cNvGrpSpPr/>
            <p:nvPr/>
          </p:nvGrpSpPr>
          <p:grpSpPr>
            <a:xfrm>
              <a:off x="685800" y="1600200"/>
              <a:ext cx="4266720" cy="838080"/>
              <a:chOff x="685800" y="1600200"/>
              <a:chExt cx="4266720" cy="83808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804600" y="1600200"/>
                <a:ext cx="402912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ample Science Assessment Limit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(based on Webb)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Rectangle 16"/>
              <p:cNvSpPr/>
              <p:nvPr/>
            </p:nvSpPr>
            <p:spPr>
              <a:xfrm>
                <a:off x="685800" y="1600200"/>
                <a:ext cx="4266720" cy="838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4" name="Group 23"/>
            <p:cNvGrpSpPr/>
            <p:nvPr/>
          </p:nvGrpSpPr>
          <p:grpSpPr>
            <a:xfrm>
              <a:off x="685800" y="2438280"/>
              <a:ext cx="4266720" cy="746280"/>
              <a:chOff x="685800" y="2438280"/>
              <a:chExt cx="4266720" cy="746280"/>
            </a:xfrm>
          </p:grpSpPr>
          <p:sp>
            <p:nvSpPr>
              <p:cNvPr id="145" name="Rectangle 7"/>
              <p:cNvSpPr/>
              <p:nvPr/>
            </p:nvSpPr>
            <p:spPr>
              <a:xfrm>
                <a:off x="804600" y="2438280"/>
                <a:ext cx="402912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Example A: Perform a simple science process or a set procedure to gather data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22"/>
              <p:cNvSpPr/>
              <p:nvPr/>
            </p:nvSpPr>
            <p:spPr>
              <a:xfrm>
                <a:off x="685800" y="2438280"/>
                <a:ext cx="4266720" cy="74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7" name="Group 29"/>
            <p:cNvGrpSpPr/>
            <p:nvPr/>
          </p:nvGrpSpPr>
          <p:grpSpPr>
            <a:xfrm>
              <a:off x="685800" y="3184560"/>
              <a:ext cx="4266720" cy="1174680"/>
              <a:chOff x="685800" y="3184560"/>
              <a:chExt cx="4266720" cy="1174680"/>
            </a:xfrm>
          </p:grpSpPr>
          <p:sp>
            <p:nvSpPr>
              <p:cNvPr id="148" name="Rectangle 10"/>
              <p:cNvSpPr/>
              <p:nvPr/>
            </p:nvSpPr>
            <p:spPr>
              <a:xfrm>
                <a:off x="804600" y="3184560"/>
                <a:ext cx="4029120" cy="11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Example B: Represent data collected over a period time, making comparisons and interpretation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Rectangle 28"/>
              <p:cNvSpPr/>
              <p:nvPr/>
            </p:nvSpPr>
            <p:spPr>
              <a:xfrm>
                <a:off x="685800" y="3184560"/>
                <a:ext cx="4266720" cy="11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0" name="Group 35"/>
            <p:cNvGrpSpPr/>
            <p:nvPr/>
          </p:nvGrpSpPr>
          <p:grpSpPr>
            <a:xfrm>
              <a:off x="685800" y="4359240"/>
              <a:ext cx="4266720" cy="2038320"/>
              <a:chOff x="685800" y="4359240"/>
              <a:chExt cx="4266720" cy="2038320"/>
            </a:xfrm>
          </p:grpSpPr>
          <p:sp>
            <p:nvSpPr>
              <p:cNvPr id="151" name="Rectangle 13"/>
              <p:cNvSpPr/>
              <p:nvPr/>
            </p:nvSpPr>
            <p:spPr>
              <a:xfrm>
                <a:off x="804600" y="4359240"/>
                <a:ext cx="4029120" cy="20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49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Example C: Interpret data collected for a research question for a scientific problem related to your environment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49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49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49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Rectangle 34"/>
              <p:cNvSpPr/>
              <p:nvPr/>
            </p:nvSpPr>
            <p:spPr>
              <a:xfrm>
                <a:off x="685800" y="4359240"/>
                <a:ext cx="4266720" cy="2038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53" name="Group 47"/>
          <p:cNvGrpSpPr/>
          <p:nvPr/>
        </p:nvGrpSpPr>
        <p:grpSpPr>
          <a:xfrm>
            <a:off x="4952880" y="1600200"/>
            <a:ext cx="914040" cy="4797360"/>
            <a:chOff x="4952880" y="1600200"/>
            <a:chExt cx="914040" cy="4797360"/>
          </a:xfrm>
        </p:grpSpPr>
        <p:grpSp>
          <p:nvGrpSpPr>
            <p:cNvPr id="154" name="Group 19"/>
            <p:cNvGrpSpPr/>
            <p:nvPr/>
          </p:nvGrpSpPr>
          <p:grpSpPr>
            <a:xfrm>
              <a:off x="4952880" y="1600200"/>
              <a:ext cx="914040" cy="838080"/>
              <a:chOff x="4952880" y="1600200"/>
              <a:chExt cx="914040" cy="838080"/>
            </a:xfrm>
          </p:grpSpPr>
          <p:sp>
            <p:nvSpPr>
              <p:cNvPr id="155" name="Rectangle 5"/>
              <p:cNvSpPr/>
              <p:nvPr/>
            </p:nvSpPr>
            <p:spPr>
              <a:xfrm>
                <a:off x="5062680" y="1600200"/>
                <a:ext cx="69408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DOK Ceiling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Level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Rectangle 18"/>
              <p:cNvSpPr/>
              <p:nvPr/>
            </p:nvSpPr>
            <p:spPr>
              <a:xfrm>
                <a:off x="4952880" y="1600200"/>
                <a:ext cx="914040" cy="838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7" name="Group 25"/>
            <p:cNvGrpSpPr/>
            <p:nvPr/>
          </p:nvGrpSpPr>
          <p:grpSpPr>
            <a:xfrm>
              <a:off x="4952880" y="2438280"/>
              <a:ext cx="914040" cy="746280"/>
              <a:chOff x="4952880" y="2438280"/>
              <a:chExt cx="914040" cy="746280"/>
            </a:xfrm>
          </p:grpSpPr>
          <p:sp>
            <p:nvSpPr>
              <p:cNvPr id="158" name="Rectangle 8"/>
              <p:cNvSpPr/>
              <p:nvPr/>
            </p:nvSpPr>
            <p:spPr>
              <a:xfrm>
                <a:off x="5062680" y="2438280"/>
                <a:ext cx="69408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Rectangle 24"/>
              <p:cNvSpPr/>
              <p:nvPr/>
            </p:nvSpPr>
            <p:spPr>
              <a:xfrm>
                <a:off x="4952880" y="2438280"/>
                <a:ext cx="914040" cy="74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0" name="Group 31"/>
            <p:cNvGrpSpPr/>
            <p:nvPr/>
          </p:nvGrpSpPr>
          <p:grpSpPr>
            <a:xfrm>
              <a:off x="4952880" y="3184560"/>
              <a:ext cx="914040" cy="1174680"/>
              <a:chOff x="4952880" y="3184560"/>
              <a:chExt cx="914040" cy="1174680"/>
            </a:xfrm>
          </p:grpSpPr>
          <p:sp>
            <p:nvSpPr>
              <p:cNvPr id="161" name="Rectangle 11"/>
              <p:cNvSpPr/>
              <p:nvPr/>
            </p:nvSpPr>
            <p:spPr>
              <a:xfrm>
                <a:off x="5062680" y="3184560"/>
                <a:ext cx="694080" cy="11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Rectangle 30"/>
              <p:cNvSpPr/>
              <p:nvPr/>
            </p:nvSpPr>
            <p:spPr>
              <a:xfrm>
                <a:off x="4952880" y="3184560"/>
                <a:ext cx="914040" cy="11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37"/>
            <p:cNvGrpSpPr/>
            <p:nvPr/>
          </p:nvGrpSpPr>
          <p:grpSpPr>
            <a:xfrm>
              <a:off x="4952880" y="4359240"/>
              <a:ext cx="914040" cy="2038320"/>
              <a:chOff x="4952880" y="4359240"/>
              <a:chExt cx="914040" cy="2038320"/>
            </a:xfrm>
          </p:grpSpPr>
          <p:sp>
            <p:nvSpPr>
              <p:cNvPr id="164" name="Rectangle 14"/>
              <p:cNvSpPr/>
              <p:nvPr/>
            </p:nvSpPr>
            <p:spPr>
              <a:xfrm>
                <a:off x="5062680" y="4359240"/>
                <a:ext cx="694080" cy="20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Rectangle 36"/>
              <p:cNvSpPr/>
              <p:nvPr/>
            </p:nvSpPr>
            <p:spPr>
              <a:xfrm>
                <a:off x="4952880" y="4359240"/>
                <a:ext cx="914040" cy="2038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66" name="Group 21"/>
          <p:cNvGrpSpPr/>
          <p:nvPr/>
        </p:nvGrpSpPr>
        <p:grpSpPr>
          <a:xfrm>
            <a:off x="5867280" y="1600200"/>
            <a:ext cx="2806200" cy="838080"/>
            <a:chOff x="5867280" y="1600200"/>
            <a:chExt cx="2806200" cy="838080"/>
          </a:xfrm>
        </p:grpSpPr>
        <p:sp>
          <p:nvSpPr>
            <p:cNvPr id="167" name="Rectangle 6"/>
            <p:cNvSpPr/>
            <p:nvPr/>
          </p:nvSpPr>
          <p:spPr>
            <a:xfrm>
              <a:off x="6034680" y="1600200"/>
              <a:ext cx="2471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228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otential DOK Level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for Assessment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20"/>
            <p:cNvSpPr/>
            <p:nvPr/>
          </p:nvSpPr>
          <p:spPr>
            <a:xfrm>
              <a:off x="5867280" y="1600200"/>
              <a:ext cx="2806200" cy="838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5867280" y="2438280"/>
            <a:ext cx="2806200" cy="746280"/>
            <a:chOff x="5867280" y="2438280"/>
            <a:chExt cx="2806200" cy="746280"/>
          </a:xfrm>
        </p:grpSpPr>
        <p:sp>
          <p:nvSpPr>
            <p:cNvPr id="170" name="Rectangle 9"/>
            <p:cNvSpPr/>
            <p:nvPr/>
          </p:nvSpPr>
          <p:spPr>
            <a:xfrm>
              <a:off x="6034680" y="2438280"/>
              <a:ext cx="24714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 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(Measure temperature of  water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Rectangle 26"/>
            <p:cNvSpPr/>
            <p:nvPr/>
          </p:nvSpPr>
          <p:spPr>
            <a:xfrm>
              <a:off x="5867280" y="2438280"/>
              <a:ext cx="2806200" cy="746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2" name="Rectangle 12"/>
          <p:cNvSpPr/>
          <p:nvPr/>
        </p:nvSpPr>
        <p:spPr>
          <a:xfrm>
            <a:off x="5867280" y="3184560"/>
            <a:ext cx="281952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Measure temperature of  water at different times/plac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Construct a graph to organize, display, and compare dat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5867280" y="3184560"/>
            <a:ext cx="2806920" cy="1174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5867280" y="4359240"/>
            <a:ext cx="281952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Measure temperature of  water at different times/plac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Construct a graph to organize, display, and compare dat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Design an investigation to explain the affect of varying temperatures of the river in different location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5867280" y="4359240"/>
            <a:ext cx="2806920" cy="20383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48C1-8F24-4B20-8854-F54B5382DE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602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member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762120" y="1752480"/>
            <a:ext cx="76197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th of Knowledge (DOK) is a scale of cognitive dema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K requires looking at the assessment item/standard-</a:t>
            </a:r>
            <a:r>
              <a:rPr b="0" lang="en-US" sz="2400" spc="-1" strike="noStrike">
                <a:solidFill>
                  <a:srgbClr val="ff7c80"/>
                </a:solidFill>
                <a:latin typeface="Tahoma"/>
              </a:rPr>
              <a:t>not student 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in order to determine the level. DOK is about the item/standard-</a:t>
            </a:r>
            <a:r>
              <a:rPr b="0" lang="en-US" sz="2400" spc="-1" strike="noStrike">
                <a:solidFill>
                  <a:srgbClr val="ff7c80"/>
                </a:solidFill>
                <a:latin typeface="Tahoma"/>
              </a:rPr>
              <a:t>not the stud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ntext of the assessment item/standard must be considered to determine the DOK-not just a look at what verb was chos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6714-F0C1-4689-B33D-EFCC35BA5B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Depth of Knowled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sm to ensure that the intent of the standard and the level of student demonstration required by that standard matches the assessment items (required under NCLB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cognitive processing ceiling </a:t>
            </a:r>
            <a:r>
              <a:rPr b="0" lang="en-US" sz="2800" spc="-1" strike="noStrike">
                <a:solidFill>
                  <a:srgbClr val="ff7c80"/>
                </a:solidFill>
                <a:latin typeface="Tahoma"/>
              </a:rPr>
              <a:t>(highest level students can be assessed) for ite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21DC-F20A-4607-9AF1-86FB1F266A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7800" y="326880"/>
            <a:ext cx="6253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pth of Knowledg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92203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bb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 Depth of Knowledge level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246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all and Reproduction:   Level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246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kills &amp; Concepts:               Level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246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ategic Thinking:             Level 3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246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tended Thinking:            Level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4886-9C52-439A-BB55-EC3377818D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call and Reproduction:  Level 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78"/>
          <p:cNvSpPr/>
          <p:nvPr/>
        </p:nvSpPr>
        <p:spPr>
          <a:xfrm>
            <a:off x="533520" y="1219320"/>
            <a:ext cx="739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79"/>
          <p:cNvSpPr/>
          <p:nvPr/>
        </p:nvSpPr>
        <p:spPr>
          <a:xfrm>
            <a:off x="762120" y="1752480"/>
            <a:ext cx="76197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K 1 requires recall of information, such as a fact, definition, term, or performance of a simple process or proced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nswering a Level 1 item can involve following a simple, well-known procedure or formula. Simple skills and abilities or recall characterize DOK 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261E-3503-4F4F-9D53-C42340AAFF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K Level 1 Examp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List animals that survive by eating other anim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te or recall facts explicitly found in 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physical features of pl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the perimeter or area of rectangles given a drawing or lab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elements of music using musical termin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basic rules for participating in simple games and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190F-20C3-415A-A9A4-D8DDF54263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kills/Concepts:  Level 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09480" y="1600200"/>
            <a:ext cx="79250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K 2 includes the engagement of some mental processing beyond recalling or reproducing a response. Items require students to make some decisions as to how to approach the question or probl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actions 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  <a:ea typeface="Times New Roman"/>
              </a:rPr>
              <a:t>imply more than one </a:t>
            </a:r>
            <a:r>
              <a:rPr b="1" lang="en-US" sz="3200" spc="-1" strike="noStrike" u="sng">
                <a:solidFill>
                  <a:srgbClr val="ff7c80"/>
                </a:solidFill>
                <a:uFillTx/>
                <a:latin typeface="Arial"/>
                <a:ea typeface="Times New Roman"/>
              </a:rPr>
              <a:t>mental or cognitive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  <a:ea typeface="Times New Roman"/>
              </a:rPr>
              <a:t> process/ste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524D-E4F7-4F8B-BF15-9C04E7CFA6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K Level 2 Examp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pare desert and tropical environ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and summarize the major events, problem, solution, conflicts in literary 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the cause-effect of historical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ct a logical outcome based on information in a reading se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how good work habits are important at home, school, and on the jo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ify plane and three dimensional fig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various styles of mus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0DA9-6CAA-4465-9160-7ED7A0E35D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trategic Thinking:  Level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33520" y="1523880"/>
            <a:ext cx="83055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K 3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quires deep understanding as exhibited through planning, using evidence, and 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  <a:ea typeface="Times New Roman"/>
              </a:rPr>
              <a:t>more demanding </a:t>
            </a:r>
            <a:r>
              <a:rPr b="1" lang="en-US" sz="3200" spc="-1" strike="noStrike" u="sng">
                <a:solidFill>
                  <a:srgbClr val="ff7c80"/>
                </a:solidFill>
                <a:uFillTx/>
                <a:latin typeface="Arial"/>
                <a:ea typeface="Times New Roman"/>
              </a:rPr>
              <a:t>cognitive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  <a:ea typeface="Times New Roman"/>
              </a:rPr>
              <a:t> reason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The cognitive demands at Level 3 are complex and abstrac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n assessment item that has more than one possible answer and 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  <a:ea typeface="Times New Roman"/>
              </a:rPr>
              <a:t>requires students to justify the response they gi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would most likely be a Level 3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7A71-B11C-4118-97ED-E671486DB2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K Level 3 Examp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e consumer actions and analyze how these actions impact the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e or evaluate the effectiveness of literary elements (e.g. characterization, setting, point of view, conflict and resolution, plot structu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 a multiple-step problem and provide support with a mathematical explanation that justifies the ans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5:08:05Z</dcterms:created>
  <dc:creator>Mike Dodson</dc:creator>
  <dc:description/>
  <dc:language>en-US</dc:language>
  <cp:lastModifiedBy>Donna DeCurtis</cp:lastModifiedBy>
  <dcterms:modified xsi:type="dcterms:W3CDTF">2010-06-30T12:50:53Z</dcterms:modified>
  <cp:revision>187</cp:revision>
  <dc:subject/>
  <dc:title>Construction Guy</dc:title>
</cp:coreProperties>
</file>